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735763" cy="97996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6735600" cy="979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dt" idx="7"/>
          </p:nvPr>
        </p:nvSpPr>
        <p:spPr>
          <a:xfrm>
            <a:off x="3816000" y="-360"/>
            <a:ext cx="291924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 type="sldImg"/>
          </p:nvPr>
        </p:nvSpPr>
        <p:spPr>
          <a:xfrm>
            <a:off x="917280" y="735120"/>
            <a:ext cx="4900680" cy="3674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move the slide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 type="ftr" idx="8"/>
          </p:nvPr>
        </p:nvSpPr>
        <p:spPr>
          <a:xfrm>
            <a:off x="-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6"/>
          <p:cNvSpPr>
            <a:spLocks noGrp="1"/>
          </p:cNvSpPr>
          <p:nvPr>
            <p:ph type="sldNum" idx="9"/>
          </p:nvPr>
        </p:nvSpPr>
        <p:spPr>
          <a:xfrm>
            <a:off x="381600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5E76C9-F0F5-4C25-A788-5144E77985D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отношения в экономи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и его роль в экономической жизн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е структуры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и монополия.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ременный рынок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ановление рыночной экономики в Росс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свободного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влияни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рос – общественная потребность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ыраженная в денежной форме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еспеченная платежными средствами,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змеры спроса зависят от уровн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жных доходов населения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мм, выделяемых производителям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 приобретение средств производства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дложение – совокупнос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ов и услуг, которы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гут быть реализованы н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лияет на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формирует его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утем формиров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ссортимента 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, их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пределяет предложение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рез готовность оплатить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имые товары 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слуги. Чем больше спрос,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м больше цена товара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 устойчиво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акторы, определяющие спрос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ой фактор (цена товара или услуг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а – количество денег, других товаров и услуг, уплачиваемое и получаемое за единицу товара или услу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ые факторы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ленность потенциальных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личина дохода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аличие заменителей товара или услу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жидаемое поведение цен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полит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льные сторо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ациональное распределение ресурсов между различными сферами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вобода выбора и действий производителей и потреби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вышение качества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ование внедрения достижений научно-технического прогресс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Бездефицитность рынка, удовлетворение разнообразных потребност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лабые стороны (“изъяны”)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ое регулировани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жет компенсировать изъяны рыночного регулирова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ямое(административное):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свенное: регулирование объемов денег в обращении, политика в области налогообложения, таможенных пошлин и т.п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итерии характеристики рыночной структур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объекта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товаров и услуг, труда и капитала, информации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убъектам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покупателей, продавцов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географическому положению (местный, регион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тепени ограниченности конкуренци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вободный, монополистически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о соответствию законодательству (легальный, нелегальный и т.д.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ый рынок</a:t>
            </a:r>
            <a:br>
              <a:rPr sz="1200"/>
            </a:b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Рынок ценных бумаг)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 – эмиссионные бумаг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миссия (выпуск ценных бумаг)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астная(выпуск акций и облигаций акционерными компания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енная (выпуск облигаций государственных займов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е документы, в которых зафиксированы права их владельца или предъявит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1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ция –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Экономические систе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лигация –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е бумаг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значейские обязательства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ексел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берегательные сертификат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к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ккредитив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говые распис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веща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ункции рынка 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здание условий для передела собствен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уществление покрытия дефицита текущего бюджет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ондовая бирж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Rectangle 7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нфраструктура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вокупность институтов, служб, предприятий, обслуживающих рынок, особую роль в которой играют банк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перничество фирм покупателей и продавцов на рынк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истическ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лигополистическ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совершенн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ова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ценова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добросовестная конкуренция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 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Чистая конкуренц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(совершенная, идеаль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чины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онопольная цена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рынка и государ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Является обязательной составляющей механизма возникновения монополи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радицио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о обмен, распределение доходов базируются на освященных временем обычаях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4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омандно-административная (централизованная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ом средств производства и ресурсов является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полностью регулирует все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определяется государством, есть черный рынок товаров 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5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ч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еобладает частная собственность на ресур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уществует конкурентная сре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ы и уровень зарплаты складываются стихийно,  под влиянием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ыступает в роли частной фирм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6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мешанная экономи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Государство в основном регулирует экономические процессы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          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тдельная сфера экономи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Место для осуществления торговых операций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8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изнаки рынк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ое предложение (производитель свободно решает, что, как, сколько, для кого производить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ый спрос (потребитель сам решает, что, где, как, сколько покупать)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Нерегулируемая (свободная) цена зависит от спроса и предложения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917640" y="735120"/>
            <a:ext cx="4900680" cy="367488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898200" y="4654080"/>
            <a:ext cx="4938840" cy="441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Місце для номера слайда 3"/>
          <p:cNvSpPr/>
          <p:nvPr/>
        </p:nvSpPr>
        <p:spPr>
          <a:xfrm>
            <a:off x="3816360" y="9309240"/>
            <a:ext cx="2919240" cy="49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обществознание, 11 класс     учитель: Марченкова В.М.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9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Финансовый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ова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и услу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факторо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дене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апитал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земл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труд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ценных бумаг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кредитов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ок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средств 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производства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Times New Roman"/>
              </a:rPr>
              <a:t>Рынки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BAE3F-DF10-4434-BD11-380E8B156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B3C58-B75F-4CA3-A271-2842185117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4CA98-F2AF-4339-813D-4C05EC272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2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3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CC283-6679-467F-BEE9-EEB71CE7EA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78AB-26A8-4863-AB3B-95C6D4A08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E1055C-2D81-4D11-B28E-39E20D9A3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C6815D-91CC-44B2-9E5F-AB3861506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3E13BC-8E43-4011-9CDE-662A9E87AE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260426-4A0E-4DF0-90BA-11EDF78560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DB490-C57C-474D-BCC8-BE027473D6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C9872-44A0-41F2-8C6B-E3FB14D03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subTitle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88747-904E-4A0D-BF1F-5733CB7D09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FE7C1-C941-45D8-B9B5-E018E71F89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65D0A-5A3C-4866-BCA4-56FBB1EE52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78FF1-ABA1-4A0C-B917-F416EEE8D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C09125-8A31-458D-AF34-2A7A7744D0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372060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374520" y="198108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106668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29" name="PlaceHolder 6"/>
          <p:cNvSpPr>
            <a:spLocks noGrp="1"/>
          </p:cNvSpPr>
          <p:nvPr>
            <p:ph/>
          </p:nvPr>
        </p:nvSpPr>
        <p:spPr>
          <a:xfrm>
            <a:off x="372060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130" name="PlaceHolder 7"/>
          <p:cNvSpPr>
            <a:spLocks noGrp="1"/>
          </p:cNvSpPr>
          <p:nvPr>
            <p:ph/>
          </p:nvPr>
        </p:nvSpPr>
        <p:spPr>
          <a:xfrm>
            <a:off x="6374520" y="4130640"/>
            <a:ext cx="252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1F679D-101C-473D-90BA-C2F358B8F9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31DF0-6EAB-45CB-BCF8-C0B58093B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9D95E-029A-47DE-A9A7-957DEB40C7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8802-9BC5-4929-B5D2-59D6DA1D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subTitle"/>
          </p:nvPr>
        </p:nvSpPr>
        <p:spPr>
          <a:xfrm>
            <a:off x="1143000" y="1418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7D005-9354-4A9D-8A27-508D17AD4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E1E13-E11E-4098-A168-B3E8131CD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088600" y="413064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67B09-BDBB-4DCD-B49D-C6BF5106B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5088600" y="1981080"/>
            <a:ext cx="383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1066680" y="4130640"/>
            <a:ext cx="78487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9921-DF2A-4C83-947A-6DE0A686D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1" name="AutoShape 3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AutoShape 5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AutoShape 6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AutoShape 7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AutoShape 8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AutoShape 9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8" name="Rectangle 10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AutoShape 11"/>
          <p:cNvSpPr/>
          <p:nvPr/>
        </p:nvSpPr>
        <p:spPr>
          <a:xfrm flipH="1">
            <a:off x="546840" y="1703520"/>
            <a:ext cx="8596440" cy="25380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3800"/>
              <a:gd name="textAreaBottom" fmla="*/ 254160 h 253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" name="Oval 12"/>
          <p:cNvSpPr/>
          <p:nvPr/>
        </p:nvSpPr>
        <p:spPr>
          <a:xfrm>
            <a:off x="460440" y="170640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Rectangle 13"/>
          <p:cNvSpPr/>
          <p:nvPr/>
        </p:nvSpPr>
        <p:spPr>
          <a:xfrm>
            <a:off x="463680" y="1913040"/>
            <a:ext cx="190440" cy="467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Oval 14"/>
          <p:cNvSpPr/>
          <p:nvPr/>
        </p:nvSpPr>
        <p:spPr>
          <a:xfrm>
            <a:off x="9209160" y="16765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Rectangle 15"/>
          <p:cNvSpPr/>
          <p:nvPr/>
        </p:nvSpPr>
        <p:spPr>
          <a:xfrm>
            <a:off x="457200" y="173988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4" name="Group 16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15" name="AutoShape 17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AutoShape 18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AutoShape 19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AutoShape 20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AutoShape 21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AutoShape 22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Freeform 24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 type="dt" idx="1"/>
          </p:nvPr>
        </p:nvSpPr>
        <p:spPr>
          <a:xfrm>
            <a:off x="115416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 type="ftr" idx="2"/>
          </p:nvPr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5"/>
          <p:cNvSpPr>
            <a:spLocks noGrp="1"/>
          </p:cNvSpPr>
          <p:nvPr>
            <p:ph type="sldNum" idx="3"/>
          </p:nvPr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685F7F-6E8A-4A2E-B732-9FCD8C082E1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2181b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4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65" name="Rectangle 3"/>
            <p:cNvSpPr/>
            <p:nvPr/>
          </p:nvSpPr>
          <p:spPr>
            <a:xfrm>
              <a:off x="0" y="0"/>
              <a:ext cx="9144000" cy="849240"/>
            </a:xfrm>
            <a:prstGeom prst="rect">
              <a:avLst/>
            </a:prstGeom>
            <a:gradFill rotWithShape="0">
              <a:gsLst>
                <a:gs pos="0">
                  <a:srgbClr val="1c6d9a"/>
                </a:gs>
                <a:gs pos="100000">
                  <a:srgbClr val="2181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Rectangle 4"/>
            <p:cNvSpPr/>
            <p:nvPr/>
          </p:nvSpPr>
          <p:spPr>
            <a:xfrm>
              <a:off x="0" y="4995720"/>
              <a:ext cx="9144000" cy="1862280"/>
            </a:xfrm>
            <a:prstGeom prst="rect">
              <a:avLst/>
            </a:prstGeom>
            <a:gradFill rotWithShape="0">
              <a:gsLst>
                <a:gs pos="0">
                  <a:srgbClr val="2181b7"/>
                </a:gs>
                <a:gs pos="100000">
                  <a:srgbClr val="1c6d9a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67" name="Group 5"/>
          <p:cNvGrpSpPr/>
          <p:nvPr/>
        </p:nvGrpSpPr>
        <p:grpSpPr>
          <a:xfrm>
            <a:off x="152280" y="314280"/>
            <a:ext cx="847440" cy="6543000"/>
            <a:chOff x="152280" y="314280"/>
            <a:chExt cx="847440" cy="6543000"/>
          </a:xfrm>
        </p:grpSpPr>
        <p:sp>
          <p:nvSpPr>
            <p:cNvPr id="68" name="AutoShape 6"/>
            <p:cNvSpPr/>
            <p:nvPr/>
          </p:nvSpPr>
          <p:spPr>
            <a:xfrm flipH="1" rot="5400000">
              <a:off x="129600" y="316764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AutoShape 7"/>
            <p:cNvSpPr/>
            <p:nvPr/>
          </p:nvSpPr>
          <p:spPr>
            <a:xfrm flipH="1" rot="5400000">
              <a:off x="129600" y="4110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AutoShape 8"/>
            <p:cNvSpPr/>
            <p:nvPr/>
          </p:nvSpPr>
          <p:spPr>
            <a:xfrm flipH="1" rot="5400000">
              <a:off x="127440" y="504972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AutoShape 9"/>
            <p:cNvSpPr/>
            <p:nvPr/>
          </p:nvSpPr>
          <p:spPr>
            <a:xfrm flipH="1" rot="5400000">
              <a:off x="131760" y="5992200"/>
              <a:ext cx="885240" cy="844560"/>
            </a:xfrm>
            <a:prstGeom prst="parallelogram">
              <a:avLst>
                <a:gd name="adj" fmla="val 55504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AutoShape 10"/>
            <p:cNvSpPr/>
            <p:nvPr/>
          </p:nvSpPr>
          <p:spPr>
            <a:xfrm flipH="1" rot="5400000">
              <a:off x="129600" y="339480"/>
              <a:ext cx="894960" cy="844560"/>
            </a:xfrm>
            <a:prstGeom prst="parallelogram">
              <a:avLst>
                <a:gd name="adj" fmla="val 56113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AutoShape 11"/>
            <p:cNvSpPr/>
            <p:nvPr/>
          </p:nvSpPr>
          <p:spPr>
            <a:xfrm flipH="1" rot="5400000">
              <a:off x="127440" y="127548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AutoShape 12"/>
            <p:cNvSpPr/>
            <p:nvPr/>
          </p:nvSpPr>
          <p:spPr>
            <a:xfrm flipH="1" rot="5400000">
              <a:off x="127440" y="2221200"/>
              <a:ext cx="894960" cy="844920"/>
            </a:xfrm>
            <a:prstGeom prst="parallelogram">
              <a:avLst>
                <a:gd name="adj" fmla="val 56090"/>
              </a:avLst>
            </a:prstGeom>
            <a:gradFill rotWithShape="0">
              <a:gsLst>
                <a:gs pos="0">
                  <a:srgbClr val="99ffcc"/>
                </a:gs>
                <a:gs pos="100000">
                  <a:srgbClr val="01b0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75" name="Rectangle 13"/>
          <p:cNvSpPr/>
          <p:nvPr/>
        </p:nvSpPr>
        <p:spPr>
          <a:xfrm>
            <a:off x="441360" y="0"/>
            <a:ext cx="276120" cy="6858000"/>
          </a:xfrm>
          <a:prstGeom prst="rect">
            <a:avLst/>
          </a:pr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AutoShape 14"/>
          <p:cNvSpPr/>
          <p:nvPr/>
        </p:nvSpPr>
        <p:spPr>
          <a:xfrm flipH="1">
            <a:off x="546840" y="2717640"/>
            <a:ext cx="8596440" cy="254160"/>
          </a:xfrm>
          <a:custGeom>
            <a:avLst/>
            <a:gdLst>
              <a:gd name="textAreaLeft" fmla="*/ -360 w 8596440"/>
              <a:gd name="textAreaRight" fmla="*/ 8596440 w 8596440"/>
              <a:gd name="textAreaTop" fmla="*/ 0 h 254160"/>
              <a:gd name="textAreaBottom" fmla="*/ 254520 h 254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224" y="0"/>
                </a:lnTo>
                <a:lnTo>
                  <a:pt x="21600" y="10800"/>
                </a:lnTo>
                <a:lnTo>
                  <a:pt x="21224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001932"/>
              </a:gs>
              <a:gs pos="50000">
                <a:srgbClr val="1c6d9a"/>
              </a:gs>
              <a:gs pos="100000">
                <a:srgbClr val="001932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" name="Oval 15"/>
          <p:cNvSpPr/>
          <p:nvPr/>
        </p:nvSpPr>
        <p:spPr>
          <a:xfrm>
            <a:off x="433440" y="2697120"/>
            <a:ext cx="29520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8" name="Rectangle 16"/>
          <p:cNvSpPr/>
          <p:nvPr/>
        </p:nvSpPr>
        <p:spPr>
          <a:xfrm>
            <a:off x="463680" y="2700360"/>
            <a:ext cx="161640" cy="41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Oval 17"/>
          <p:cNvSpPr/>
          <p:nvPr/>
        </p:nvSpPr>
        <p:spPr>
          <a:xfrm>
            <a:off x="9236160" y="2697120"/>
            <a:ext cx="304560" cy="274680"/>
          </a:xfrm>
          <a:prstGeom prst="ellipse">
            <a:avLst/>
          </a:prstGeom>
          <a:gradFill rotWithShape="0">
            <a:gsLst>
              <a:gs pos="0">
                <a:srgbClr val="feffff"/>
              </a:gs>
              <a:gs pos="100000">
                <a:srgbClr val="1c6d9a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Rectangle 18"/>
          <p:cNvSpPr/>
          <p:nvPr/>
        </p:nvSpPr>
        <p:spPr>
          <a:xfrm>
            <a:off x="484200" y="2760840"/>
            <a:ext cx="8751960" cy="19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81" name="Group 19"/>
          <p:cNvGrpSpPr/>
          <p:nvPr/>
        </p:nvGrpSpPr>
        <p:grpSpPr>
          <a:xfrm>
            <a:off x="150840" y="0"/>
            <a:ext cx="849240" cy="6858000"/>
            <a:chOff x="150840" y="0"/>
            <a:chExt cx="849240" cy="6858000"/>
          </a:xfrm>
        </p:grpSpPr>
        <p:sp>
          <p:nvSpPr>
            <p:cNvPr id="82" name="AutoShape 20"/>
            <p:cNvSpPr/>
            <p:nvPr/>
          </p:nvSpPr>
          <p:spPr>
            <a:xfrm rot="16200000">
              <a:off x="129240" y="3637440"/>
              <a:ext cx="895320" cy="846000"/>
            </a:xfrm>
            <a:prstGeom prst="parallelogram">
              <a:avLst>
                <a:gd name="adj" fmla="val 56040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AutoShape 21"/>
            <p:cNvSpPr/>
            <p:nvPr/>
          </p:nvSpPr>
          <p:spPr>
            <a:xfrm rot="16200000">
              <a:off x="128520" y="458100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AutoShape 22"/>
            <p:cNvSpPr/>
            <p:nvPr/>
          </p:nvSpPr>
          <p:spPr>
            <a:xfrm rot="16200000">
              <a:off x="127800" y="552312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AutoShape 23"/>
            <p:cNvSpPr/>
            <p:nvPr/>
          </p:nvSpPr>
          <p:spPr>
            <a:xfrm rot="16200000">
              <a:off x="128520" y="806040"/>
              <a:ext cx="896760" cy="846000"/>
            </a:xfrm>
            <a:prstGeom prst="parallelogram">
              <a:avLst>
                <a:gd name="adj" fmla="val 56131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AutoShape 24"/>
            <p:cNvSpPr/>
            <p:nvPr/>
          </p:nvSpPr>
          <p:spPr>
            <a:xfrm rot="16200000">
              <a:off x="127800" y="174816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AutoShape 25"/>
            <p:cNvSpPr/>
            <p:nvPr/>
          </p:nvSpPr>
          <p:spPr>
            <a:xfrm rot="16200000">
              <a:off x="127800" y="2694240"/>
              <a:ext cx="895320" cy="846360"/>
            </a:xfrm>
            <a:prstGeom prst="parallelogram">
              <a:avLst>
                <a:gd name="adj" fmla="val 56017"/>
              </a:avLst>
            </a:pr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Freeform 26"/>
            <p:cNvSpPr/>
            <p:nvPr/>
          </p:nvSpPr>
          <p:spPr>
            <a:xfrm>
              <a:off x="155520" y="0"/>
              <a:ext cx="844560" cy="738360"/>
            </a:xfrm>
            <a:custGeom>
              <a:avLst/>
              <a:gdLst/>
              <a:ahLst/>
              <a:rect l="l" t="t" r="r" b="b"/>
              <a:pathLst>
                <a:path w="532" h="465">
                  <a:moveTo>
                    <a:pt x="1" y="0"/>
                  </a:moveTo>
                  <a:lnTo>
                    <a:pt x="0" y="166"/>
                  </a:lnTo>
                  <a:lnTo>
                    <a:pt x="532" y="465"/>
                  </a:lnTo>
                  <a:lnTo>
                    <a:pt x="532" y="201"/>
                  </a:lnTo>
                  <a:lnTo>
                    <a:pt x="172" y="0"/>
                  </a:lnTo>
                  <a:lnTo>
                    <a:pt x="1" y="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Freeform 27"/>
            <p:cNvSpPr/>
            <p:nvPr/>
          </p:nvSpPr>
          <p:spPr>
            <a:xfrm>
              <a:off x="150840" y="6445080"/>
              <a:ext cx="725400" cy="412920"/>
            </a:xfrm>
            <a:custGeom>
              <a:avLst/>
              <a:gdLst/>
              <a:ahLst/>
              <a:rect l="l" t="t" r="r" b="b"/>
              <a:pathLst>
                <a:path w="457" h="264">
                  <a:moveTo>
                    <a:pt x="457" y="260"/>
                  </a:moveTo>
                  <a:lnTo>
                    <a:pt x="1" y="0"/>
                  </a:lnTo>
                  <a:lnTo>
                    <a:pt x="0" y="264"/>
                  </a:lnTo>
                  <a:lnTo>
                    <a:pt x="457" y="260"/>
                  </a:lnTo>
                  <a:close/>
                </a:path>
              </a:pathLst>
            </a:custGeom>
            <a:gradFill rotWithShape="0">
              <a:gsLst>
                <a:gs pos="0">
                  <a:srgbClr val="01b0ff"/>
                </a:gs>
                <a:gs pos="100000">
                  <a:srgbClr val="99ffcc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36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143000" y="1418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Arial Black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 Black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 type="dt" idx="4"/>
          </p:nvPr>
        </p:nvSpPr>
        <p:spPr>
          <a:xfrm>
            <a:off x="111924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 type="ftr" idx="5"/>
          </p:nvPr>
        </p:nvSpPr>
        <p:spPr>
          <a:xfrm>
            <a:off x="3557520" y="631836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 type="sldNum" idx="6"/>
          </p:nvPr>
        </p:nvSpPr>
        <p:spPr>
          <a:xfrm>
            <a:off x="6986520" y="63183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EA3D4-4A38-46DE-9CE4-CCC546A471E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&#1094;&#1077;&#1085;&#1072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hyperlink" Target="file:///&#1073;&#1072;&#1085;&#1082;&#1080;.doc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31"/>
          <p:cNvSpPr/>
          <p:nvPr/>
        </p:nvSpPr>
        <p:spPr>
          <a:xfrm>
            <a:off x="3557520" y="6021360"/>
            <a:ext cx="289584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Rectangle 32"/>
          <p:cNvSpPr/>
          <p:nvPr/>
        </p:nvSpPr>
        <p:spPr>
          <a:xfrm>
            <a:off x="6986520" y="6021360"/>
            <a:ext cx="190512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81BB4-3ECD-40C4-B9EB-EC5AB2D51D6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54160" y="108684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ые отношения в экономик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171080" y="2976480"/>
            <a:ext cx="7667640" cy="290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Экономические систем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к и его роль в экономической жизн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Рыночные структуры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Конкуренция и монополия.</a:t>
            </a:r>
            <a:fld id="{B768CE6E-A4E4-4753-9F9C-A50A7C7D0857}" type="slidenum">
              <a:rPr b="0" lang="ru-RU" sz="2400" spc="-1" strike="noStrike">
                <a:solidFill>
                  <a:srgbClr val="ffffff"/>
                </a:solidFill>
                <a:latin typeface="Arial Black"/>
              </a:rPr>
              <a:t>&lt;number&gt;</a:t>
            </a:fld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овременный рынок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609480" indent="-609480">
              <a:spcBef>
                <a:spcPts val="601"/>
              </a:spcBef>
              <a:buClr>
                <a:srgbClr val="ffffff"/>
              </a:buClr>
              <a:buFont typeface="Arial Black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тановление рыночной экономики в России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BDCDCE-0FDB-4795-89C6-531E941479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свободного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ограниченное число его субъектов и свободный доступ на рынок любого производителя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личие у каждого участника конкурентной рыночной системы полного объема информации о ситуации на рынке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аиболее эффективная организация и технология производства, мобильность материальных, финансовых, трудовых и иных ресурсов, необходимых для производства товаров и услуг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аспределение рыночного продукта между потребителями на основе их желания и способности заплатить за него существующую рыночную цену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Невозможность участников рыночных отношений оказывать влияние на решения, принимаемые другими производителям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2E43F-8FF9-4FF9-BC87-0F73279CAA7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Взаимовлияние спроса и предложения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01" name="Rectangle 4"/>
          <p:cNvSpPr/>
          <p:nvPr/>
        </p:nvSpPr>
        <p:spPr>
          <a:xfrm>
            <a:off x="1371600" y="2209680"/>
            <a:ext cx="152280" cy="1526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2" name="Rectangle 5"/>
          <p:cNvSpPr/>
          <p:nvPr/>
        </p:nvSpPr>
        <p:spPr>
          <a:xfrm>
            <a:off x="838080" y="2133720"/>
            <a:ext cx="4343400" cy="2057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Спрос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общественная потребность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выраженная в денежной форме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обеспеченная платежными средствами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азмеры спроса зависят от уровня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денежных доходов населения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сумм, выделяемых производителям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на приобретение средств производства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Rectangle 6"/>
          <p:cNvSpPr/>
          <p:nvPr/>
        </p:nvSpPr>
        <p:spPr>
          <a:xfrm>
            <a:off x="5715000" y="2514600"/>
            <a:ext cx="3429000" cy="15238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1932"/>
                </a:solidFill>
                <a:latin typeface="Times New Roman"/>
              </a:rPr>
              <a:t>Предложение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– совокупнос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товаров и услуг, которы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могут быть реализованы н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2000" spc="-1" strike="noStrike">
                <a:solidFill>
                  <a:srgbClr val="001932"/>
                </a:solidFill>
                <a:latin typeface="Times New Roman"/>
              </a:rPr>
              <a:t>рынк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Rectangle 9"/>
          <p:cNvSpPr/>
          <p:nvPr/>
        </p:nvSpPr>
        <p:spPr>
          <a:xfrm>
            <a:off x="6248520" y="4038480"/>
            <a:ext cx="2590560" cy="167652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Влияет на спро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(формирует его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утем формирова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ассортимента  товаров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и услуг, их цен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AutoShape 13"/>
          <p:cNvSpPr/>
          <p:nvPr/>
        </p:nvSpPr>
        <p:spPr>
          <a:xfrm>
            <a:off x="4419720" y="1676520"/>
            <a:ext cx="2438280" cy="990360"/>
          </a:xfrm>
          <a:custGeom>
            <a:avLst/>
            <a:gdLst>
              <a:gd name="textAreaLeft" fmla="*/ 356760 w 2438280"/>
              <a:gd name="textAreaRight" fmla="*/ 2081520 w 2438280"/>
              <a:gd name="textAreaTop" fmla="*/ 144720 h 990360"/>
              <a:gd name="textAreaBottom" fmla="*/ 845640 h 990360"/>
            </a:gdLst>
            <a:ahLst/>
            <a:rect l="textAreaLeft" t="textAreaTop" r="textAreaRight" b="textAreaBottom"/>
            <a:pathLst>
              <a:path w="21600" h="21600">
                <a:moveTo>
                  <a:pt x="15458" y="11353"/>
                </a:moveTo>
                <a:cubicBezTo>
                  <a:pt x="15480" y="11170"/>
                  <a:pt x="15491" y="10985"/>
                  <a:pt x="15491" y="10800"/>
                </a:cubicBezTo>
                <a:cubicBezTo>
                  <a:pt x="15491" y="8209"/>
                  <a:pt x="13390" y="6109"/>
                  <a:pt x="10800" y="6109"/>
                </a:cubicBezTo>
                <a:cubicBezTo>
                  <a:pt x="8209" y="6109"/>
                  <a:pt x="6109" y="8209"/>
                  <a:pt x="6109" y="10800"/>
                </a:cubicBezTo>
                <a:cubicBezTo>
                  <a:pt x="6108" y="10837"/>
                  <a:pt x="6109" y="10874"/>
                  <a:pt x="6110" y="10912"/>
                </a:cubicBezTo>
                <a:lnTo>
                  <a:pt x="3" y="11058"/>
                </a:lnTo>
                <a:cubicBezTo>
                  <a:pt x="1" y="10972"/>
                  <a:pt x="0" y="10886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6764" y="0"/>
                  <a:pt x="21600" y="4835"/>
                  <a:pt x="21600" y="10800"/>
                </a:cubicBezTo>
                <a:cubicBezTo>
                  <a:pt x="21600" y="11226"/>
                  <a:pt x="21574" y="11652"/>
                  <a:pt x="21524" y="12075"/>
                </a:cubicBezTo>
                <a:lnTo>
                  <a:pt x="24205" y="12394"/>
                </a:lnTo>
                <a:lnTo>
                  <a:pt x="17812" y="17428"/>
                </a:lnTo>
                <a:lnTo>
                  <a:pt x="12777" y="11035"/>
                </a:lnTo>
                <a:lnTo>
                  <a:pt x="15458" y="1135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6" name="AutoShape 16"/>
          <p:cNvSpPr/>
          <p:nvPr/>
        </p:nvSpPr>
        <p:spPr>
          <a:xfrm flipH="1" flipV="1">
            <a:off x="4419720" y="3048120"/>
            <a:ext cx="1828800" cy="2133360"/>
          </a:xfrm>
          <a:custGeom>
            <a:avLst/>
            <a:gdLst>
              <a:gd name="textAreaLeft" fmla="*/ 267840 w 1828800"/>
              <a:gd name="textAreaRight" fmla="*/ 1560960 w 1828800"/>
              <a:gd name="textAreaTop" fmla="*/ 312120 h 2133360"/>
              <a:gd name="textAreaBottom" fmla="*/ 1821240 h 2133360"/>
            </a:gdLst>
            <a:ahLst/>
            <a:rect l="textAreaLeft" t="textAreaTop" r="textAreaRight" b="textAreaBottom"/>
            <a:pathLst>
              <a:path w="21600" h="21600">
                <a:moveTo>
                  <a:pt x="15392" y="6203"/>
                </a:moveTo>
                <a:cubicBezTo>
                  <a:pt x="14174" y="4985"/>
                  <a:pt x="12522" y="4302"/>
                  <a:pt x="10800" y="4302"/>
                </a:cubicBezTo>
                <a:cubicBezTo>
                  <a:pt x="7211" y="4302"/>
                  <a:pt x="4302" y="7211"/>
                  <a:pt x="4302" y="10800"/>
                </a:cubicBezTo>
                <a:cubicBezTo>
                  <a:pt x="4301" y="10985"/>
                  <a:pt x="4309" y="11170"/>
                  <a:pt x="4325" y="11354"/>
                </a:cubicBezTo>
                <a:lnTo>
                  <a:pt x="39" y="11721"/>
                </a:lnTo>
                <a:cubicBezTo>
                  <a:pt x="13" y="11415"/>
                  <a:pt x="0" y="11107"/>
                  <a:pt x="0" y="10800"/>
                </a:cubicBezTo>
                <a:cubicBezTo>
                  <a:pt x="0" y="4835"/>
                  <a:pt x="4835" y="0"/>
                  <a:pt x="10800" y="0"/>
                </a:cubicBezTo>
                <a:cubicBezTo>
                  <a:pt x="13662" y="-1"/>
                  <a:pt x="16408" y="1136"/>
                  <a:pt x="18433" y="3159"/>
                </a:cubicBezTo>
                <a:lnTo>
                  <a:pt x="20341" y="1249"/>
                </a:lnTo>
                <a:lnTo>
                  <a:pt x="20345" y="8110"/>
                </a:lnTo>
                <a:lnTo>
                  <a:pt x="13484" y="8113"/>
                </a:lnTo>
                <a:lnTo>
                  <a:pt x="15392" y="6203"/>
                </a:lnTo>
                <a:close/>
              </a:path>
            </a:pathLst>
          </a:cu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Rectangle 17"/>
          <p:cNvSpPr/>
          <p:nvPr/>
        </p:nvSpPr>
        <p:spPr>
          <a:xfrm>
            <a:off x="1143000" y="4191120"/>
            <a:ext cx="2971800" cy="2286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Определяет предложение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через готовность оплатить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имые товары и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услуги. Чем больше спрос,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тем больше цена товара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и устойчив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6666ff"/>
                </a:solidFill>
                <a:latin typeface="Times New Roman"/>
              </a:rPr>
              <a:t>производств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2DFE8-8970-4A16-AE48-5D5035A57DB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акторы, определяющие спрос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овой фактор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цена товара или услуги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6666ff"/>
                </a:solidFill>
                <a:uFillTx/>
                <a:latin typeface="Arial Narrow"/>
                <a:hlinkClick r:id="rId1"/>
              </a:rPr>
              <a:t>Цена</a:t>
            </a:r>
            <a:r>
              <a:rPr b="1" lang="ru-RU" sz="2000" spc="-1" strike="noStrike">
                <a:solidFill>
                  <a:srgbClr val="ffffff"/>
                </a:solidFill>
                <a:latin typeface="Arial Narrow"/>
              </a:rPr>
              <a:t> – </a:t>
            </a:r>
            <a:r>
              <a:rPr b="0" lang="ru-RU" sz="2000" spc="-1" strike="noStrike">
                <a:solidFill>
                  <a:srgbClr val="ffffff"/>
                </a:solidFill>
                <a:latin typeface="Arial Narrow"/>
              </a:rPr>
              <a:t>количество денег, других товаров и услуг, уплачиваемое и получаемое за единицу товара или услуги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Неценовые факторы: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Численность потенциальных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еличина дохода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истрастия и потребности покупателей в зависимости от возраста, религии, пола, климата, моды и реклам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Наличие заменителей товара или услуг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жидаемое поведение цен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енная политик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436BC-4A72-4435-B2B9-E315CC78664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ильные стороны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90360" y="2209320"/>
            <a:ext cx="7848360" cy="4038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ациональное распределение ресурсов между различными сферами деятельност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ибкость и высокая адаптивность производства и потребления к изменяющимся условиям на основе информации о динамике спроса и предлож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вобода выбора и действий производителей и потреби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овышение качества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тимулирование внедрения достижений научно-технического прогресса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Бездефицитность рынка, удовлетворение разнообразных потребност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57BA01-2B01-41E8-A67B-4592FC711DD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143000" y="385560"/>
            <a:ext cx="777240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Слабые стороны (“изъяны”)</a:t>
            </a:r>
            <a:br>
              <a:rPr sz="3600"/>
            </a:b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 рыночного регулирования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йствие рыночного механизма порождает чрезмерную дифференциацию доходов, бедность отдельных групп населения, безработицу, монополизацию экономик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Стимулируя использование достижений науки и техники, рынок не побуждает к вложениям средств в фундаментальные научные исследования, без которых НТП не возможен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Деятельность участников рынка нередко ведет к загрязнению окружающей среды, к хищническому использованию невозобновляемых природных ресурсов, а рыночный механизм не стимулирует заботу об экологии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Рыночный механизм не способствует таким необходимым для общества видам деятельности, как оборона, сфера управления, образование и другие услуги коллективного пользования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45094C-AB8A-450A-9C62-55E69377F98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Государственное регулирование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Может компенсировать изъяны рыночного регулировани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Прямое(административное)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выдача лицензий на какую-либо деятельность, контроль над ценами и качеством продукции, контроль над доходами, налоговые льготы, государственные кредиты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Косвенное: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регулирование объемов денег в обращении, политика в области налогообложения, таможенных пошлин и т.п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0E330-D08B-4505-BF6D-4E31E32586D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Критерии характеристики рыночной структур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914400" y="20574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объекта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товаров и услуг, труда и капитала, информации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убъектам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покупателей, продавцов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географическому положению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местный, регион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тепени ограниченности конкуренци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свободный, монополистически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По соответствию законодательству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(легальный, нелегальный и т.д.)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423E01-28E1-42A5-8764-B048B106AF8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599840" y="120240"/>
            <a:ext cx="7543800" cy="1981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ый рынок</a:t>
            </a:r>
            <a:br>
              <a:rPr sz="4400"/>
            </a:b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(Рынок ценных бумаг)</a:t>
            </a:r>
            <a:br>
              <a:rPr sz="4000"/>
            </a:b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истема экономических отношений между теми. Кто выпускает и продает ценные бумаги, и тем, кто их покупает и становится их владельцем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овар – эмиссионные бумаг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            </a:t>
            </a: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Эмиссия (выпуск ценных бумаг):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Частная(выпуск акций и облигаций акционерными компаниями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 Black"/>
              </a:rPr>
              <a:t>Государственная (выпуск облигаций государственных займов)</a:t>
            </a:r>
            <a:endParaRPr b="0" lang="en-US" sz="1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BA9AD-F46D-45AD-9AFC-9F3AC73CDCB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Финансовые документы, в которых зафиксированы права их владельца или предъявител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Товар, имеющий свою нарицательную стоимость (номинал) и представляющий собой определенную величину реального капитала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47AC7-4363-4FAD-8FC9-9F5DCFCEB822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1760" y="198108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                     </a:t>
            </a: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Акция –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именная ценная бумага, закрепляющая права ее владельца (акционера) на получение части прибыли акционерного в виде дивидентов, на участие в управлении акционерным обществом и на часть имущества, остающегося после его ликвидаци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D9F29C-014A-47EC-AA98-6030624E1C4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Экономические системы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Традицио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Рыночна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мешанна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10E9C-571A-490C-A006-3D47F785BCD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76212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ffffff"/>
                </a:solidFill>
                <a:uFillTx/>
                <a:latin typeface="Arial Black"/>
              </a:rPr>
              <a:t>Облигация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–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ценная бумага на предъявителя с длительным сроком действия, закрепляющая право ее владельца на получение в предусмотренный в ней срок ее номинальной стоимости или иного имущественного эквивалента от выпустившего ее (эмитента)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9D65CF-DCCB-4EB9-8534-8FF9D6F091EF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Ценные бумаги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Казначейские обязательства государ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Векселя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берегательные сертификат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Чеки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Аккредитивы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Долговые расписк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Завещания 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1D6FD-FB51-4EAA-8236-E322E250592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ункции рынка ценных бумаг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бразование и распределение средств, необходимых для инвестиций - долгосрочных вложений капитала в различные отрасли хозяйств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оздание условий для передела собственности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Осуществление покрытия дефицита текущего бюджета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7BD5D-29A1-4B74-AE63-060AB4161658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Фондовая бирж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Основа рынка ценных бумаг, учреждение, в котором осуществляется их купля-продажа биржевыми посредниками(брокерами, маклерами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Специально организованный аукцион, т.е продажа с публичных торгов, при которой ценные бумаги приобретаются лицом, предложившим наивысшую цену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CC191-1729-4B0D-934D-A9601246204A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Инфраструктура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6201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Совокупность институтов, служб, предприятий, обслуживающих рынок, особую роль в которой играют </a:t>
            </a:r>
            <a:r>
              <a:rPr b="0" lang="ru-RU" sz="3200" spc="-1" strike="noStrike" u="sng">
                <a:solidFill>
                  <a:srgbClr val="6666ff"/>
                </a:solidFill>
                <a:uFillTx/>
                <a:latin typeface="Arial Black"/>
                <a:hlinkClick r:id="rId1"/>
              </a:rPr>
              <a:t>банки</a:t>
            </a: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4DE83-9398-44D7-B01A-218C0772989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ffffff"/>
                </a:solidFill>
                <a:uFillTx/>
                <a:latin typeface="Arial Black"/>
              </a:rPr>
              <a:t>соперничество фирм покупателей и продавцов на рынке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Монополистическ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Олигополистическ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совершенн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Ценовая 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ценова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94A419-480F-40EE-ADB7-37872DD36D5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Недобросовестная конкуренция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-  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любые направленные на приобретение преимуществ в предпринимательской деятельности действия хозяйствующих субъектов, которые противоречат положениям действующего законодательства, обычаям делового оборота, требованиям добропорядочности, разумности и справедливости и могут причинить или причинили убытки другим хозяйствующим субъектам-конкурентам либо нанесли ущерб их деловой репутации. 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Законодательство большинства стран запрещает недобросовестную конкуренцию и предусматривает меры борьбы с нею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8D510-0A33-404C-A729-606E6EF28BD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Чистая конкуренция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(совершенная, идеальная)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- имеет место, когда на рынке большое количество продавцов и покупателей, каждый из которых не может оказывать влияния на формирование цены этого товара. Государство не принимает мер регулирования бизнеса. Продавцы и покупатели имеют широкий доступ к информации о ценах и их движении.</a:t>
            </a:r>
            <a:endParaRPr b="0" lang="en-US" sz="28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9C2F5-D74A-43C8-97DF-F298E655DC7E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1143000" y="264600"/>
            <a:ext cx="7772400" cy="13114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Причины возникновения монополии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61760" y="1905120"/>
            <a:ext cx="83818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  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озникновение монополии определяется целью рыночной стратегии любого предприятия/фирмы – получение наивысшей прибыли. Для достижения этой цели фирма стремится исключить все факторы, понижающие цену. Поскольку чем больше производителей, тем ближе продажная цена к себестоимости. Поэтому фирма стремится монополизировать рынок, т.е. стать единственным продавцом и установить монопольную цену.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ffffff"/>
                </a:solidFill>
                <a:uFillTx/>
                <a:latin typeface="Arial Black"/>
              </a:rPr>
              <a:t>Монопольная цена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 – рыночная цена, устанавливаемая монополистом на продаваемый или покупаемый товар и обеспечивающая возможность получения монопольной прибыли, максимально завышается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08E4E-4327-4955-9FCC-C81503282D00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143000" y="144000"/>
            <a:ext cx="7772400" cy="14324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Взаимодействие рынка и государств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Является обязательной составляющей механизма возникновения монополии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  <p:graphicFrame>
        <p:nvGraphicFramePr>
          <p:cNvPr id="280" name=""/>
          <p:cNvGraphicFramePr/>
          <p:nvPr/>
        </p:nvGraphicFramePr>
        <p:xfrm>
          <a:off x="1219320" y="2895480"/>
          <a:ext cx="7924680" cy="3645000"/>
        </p:xfrm>
        <a:graphic>
          <a:graphicData uri="http://schemas.openxmlformats.org/drawingml/2006/table">
            <a:tbl>
              <a:tblPr/>
              <a:tblGrid>
                <a:gridCol w="1981080"/>
                <a:gridCol w="1981080"/>
                <a:gridCol w="1981440"/>
                <a:gridCol w="1981080"/>
              </a:tblGrid>
              <a:tr h="87156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пуститель-ство 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оощрение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Превосходство государств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 Black"/>
                        </a:rPr>
                        <a:t>Установление естественных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773440"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не противостоит возникновению монополий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о поощряет возникновение монополий путем установления тарифов, патентов, при реализации политики протекционизма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Государственная политика допускает превосходство монополиста в технологиях, вт.ч. управленческих, что ведет к разорению остальных продавцов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Установление государственных монополий (на пользование или добычу сырья, выпуск денег и т.п.)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A1976-D539-4620-87F2-881223A3ADC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143000" y="874440"/>
            <a:ext cx="7772400" cy="7016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ccffff"/>
                </a:solidFill>
                <a:latin typeface="Arial Black"/>
              </a:rPr>
              <a:t>Традиционная экономика</a:t>
            </a:r>
            <a:endParaRPr b="0" lang="en-US" sz="40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Производство обмен, распределение доходов базируются на освященных временем обычаях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Виды хозяйственной деятельности и позиции в экономике часто передаются по наследству или определяются принадлежностью к группе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Технический прогресс, вступающий в противоречие с традиционным укладом жизни, ограничен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8568B-90BF-4E6E-B837-648F9D2F1425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066680" y="385560"/>
            <a:ext cx="7848720" cy="1190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ccffff"/>
                </a:solidFill>
                <a:latin typeface="Arial Black"/>
              </a:rPr>
              <a:t>Командно-административная (централизованная)</a:t>
            </a:r>
            <a:endParaRPr b="0" lang="en-US" sz="36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ом средств производства и ресурсов является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се решения о производстве принимаются государством, решения о потреблении принимаются как государством, так и частными лицами и фирмам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полностью регулирует все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улучшении или ухудшении экономического положения различных слоев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определяется государством, есть черный рынок товаров и услуг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21138-FB05-4963-8E37-2F4CD60140E4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ч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90360" y="1981080"/>
            <a:ext cx="7848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еобладает частная собственность на ресурс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Основная часть решений о производстве и потреблении принимается частными лицами и фирмами с учетом имеющихся цен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Существует конкурентная среда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Цены и уровень зарплаты складываются стихийно,  под влиянием спроса и предложения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Государство выступает в роли частной фирмы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выражается в доходах и убытках участников экономической деятельности</a:t>
            </a: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3F36A2-BE54-4B43-8E09-1AAA510A3463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Смешанная экономи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Собственниками факторов производства являются как частные лица и фирмы, так и государство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Решения о производстве и потреблении принимаются как частными лицами и фирмами, так и государством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Правильность/неправильность принятых решений может выражаться в доходах и убытках участников экономической деятельности, разорении части населения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Государство в основном регулирует экономические процессы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Уровень зарплаты и цен складываются стихийно, по согласованию продавцов и покупателе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463CCF-F0BF-4B57-9A62-A31D9670BCF9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            </a:t>
            </a: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Рынок 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 </a:t>
            </a:r>
            <a:r>
              <a:rPr b="0" lang="ru-RU" sz="2800" spc="-1" strike="noStrike">
                <a:solidFill>
                  <a:srgbClr val="ffffff"/>
                </a:solidFill>
                <a:latin typeface="Arial Black"/>
              </a:rPr>
              <a:t>С</a:t>
            </a: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фера товарного обмена, спрос и предложение товаров, услуг, финансовых ресурсов, ценных бумаг, золота, драгоценностей, произведений искусства, инвестиций и других на  всех уровнях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Взаимодействие многих участников хозяйственной деятельности, в результате которого определяется количество и качество производимых товаров и услуг. Центром механизма этого взаимодействия является цена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Отдельная сфера экономики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spcBef>
                <a:spcPts val="4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 Black"/>
              </a:rPr>
              <a:t>Место для осуществления торговых операций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Нижний колонтитул 4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Номер слайда 5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B7F48-FED0-402A-8F10-6251A17F6E57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1143000" y="81396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ccffff"/>
                </a:solidFill>
                <a:latin typeface="Arial Black"/>
              </a:rPr>
              <a:t>Признаки рынка</a:t>
            </a:r>
            <a:endParaRPr b="0" lang="en-US" sz="4400" spc="-1" strike="noStrike">
              <a:solidFill>
                <a:srgbClr val="ccffff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1066680" y="1981080"/>
            <a:ext cx="78487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ое предложение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роизводитель свободно решает, что, как, сколько, для кого производить)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ый спрос </a:t>
            </a:r>
            <a:r>
              <a:rPr b="0" lang="ru-RU" sz="2400" spc="-1" strike="noStrike">
                <a:solidFill>
                  <a:srgbClr val="ffffff"/>
                </a:solidFill>
                <a:latin typeface="Arial Black"/>
              </a:rPr>
              <a:t>(потребитель сам решает, что, где, как, сколько покупать) </a:t>
            </a:r>
            <a:endParaRPr b="0" lang="en-US" sz="2400" spc="-1" strike="noStrike">
              <a:solidFill>
                <a:srgbClr val="ffffff"/>
              </a:solidFill>
              <a:latin typeface="Arial Black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ffff"/>
              </a:buClr>
              <a:buFont typeface="Arial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Arial Black"/>
              </a:rPr>
              <a:t>Нерегулируемая (свободная) цена зависит от спроса и предложения</a:t>
            </a:r>
            <a:endParaRPr b="0" lang="en-US" sz="3200" spc="-1" strike="noStrike">
              <a:solidFill>
                <a:srgbClr val="ffffff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Нижний колонтитул 3"/>
          <p:cNvSpPr/>
          <p:nvPr/>
        </p:nvSpPr>
        <p:spPr>
          <a:xfrm>
            <a:off x="359244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Номер слайда 4"/>
          <p:cNvSpPr/>
          <p:nvPr/>
        </p:nvSpPr>
        <p:spPr>
          <a:xfrm>
            <a:off x="702144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7421EE-1DEF-4F29-B3E9-980C162A97CC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Rectangle 4"/>
          <p:cNvSpPr/>
          <p:nvPr/>
        </p:nvSpPr>
        <p:spPr>
          <a:xfrm>
            <a:off x="1219320" y="2209680"/>
            <a:ext cx="167616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Финансовый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Rectangle 5"/>
          <p:cNvSpPr/>
          <p:nvPr/>
        </p:nvSpPr>
        <p:spPr>
          <a:xfrm>
            <a:off x="3809880" y="2209680"/>
            <a:ext cx="167652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ова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и услу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Rectangle 6"/>
          <p:cNvSpPr/>
          <p:nvPr/>
        </p:nvSpPr>
        <p:spPr>
          <a:xfrm>
            <a:off x="6553080" y="2209680"/>
            <a:ext cx="1828800" cy="9144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факторо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Rectangle 10"/>
          <p:cNvSpPr/>
          <p:nvPr/>
        </p:nvSpPr>
        <p:spPr>
          <a:xfrm>
            <a:off x="1219320" y="3429000"/>
            <a:ext cx="11430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дене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Rectangle 11"/>
          <p:cNvSpPr/>
          <p:nvPr/>
        </p:nvSpPr>
        <p:spPr>
          <a:xfrm>
            <a:off x="2819520" y="3581280"/>
            <a:ext cx="1295280" cy="6858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апитал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Rectangle 12"/>
          <p:cNvSpPr/>
          <p:nvPr/>
        </p:nvSpPr>
        <p:spPr>
          <a:xfrm>
            <a:off x="5181480" y="3581280"/>
            <a:ext cx="1295640" cy="8384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земли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Rectangle 13"/>
          <p:cNvSpPr/>
          <p:nvPr/>
        </p:nvSpPr>
        <p:spPr>
          <a:xfrm>
            <a:off x="7543800" y="3657600"/>
            <a:ext cx="1371600" cy="8380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труд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79" name="AutoShape 19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0" name="AutoShape 20"/>
          <p:cNvCxnSpPr>
            <a:stCxn id="172" idx="2"/>
            <a:endCxn id="176" idx="0"/>
          </p:cNvCxnSpPr>
          <p:nvPr/>
        </p:nvCxnSpPr>
        <p:spPr>
          <a:xfrm>
            <a:off x="2057400" y="3047760"/>
            <a:ext cx="1410480" cy="5338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1" name="AutoShape 21"/>
          <p:cNvCxnSpPr>
            <a:stCxn id="172" idx="2"/>
            <a:endCxn id="175" idx="0"/>
          </p:cNvCxnSpPr>
          <p:nvPr/>
        </p:nvCxnSpPr>
        <p:spPr>
          <a:xfrm flipH="1">
            <a:off x="1790280" y="3048120"/>
            <a:ext cx="267120" cy="3816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2" name="AutoShape 22"/>
          <p:cNvCxnSpPr>
            <a:stCxn id="174" idx="2"/>
            <a:endCxn id="177" idx="0"/>
          </p:cNvCxnSpPr>
          <p:nvPr/>
        </p:nvCxnSpPr>
        <p:spPr>
          <a:xfrm flipH="1">
            <a:off x="5829120" y="3124080"/>
            <a:ext cx="1638720" cy="457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3" name="AutoShape 23"/>
          <p:cNvCxnSpPr>
            <a:stCxn id="174" idx="2"/>
            <a:endCxn id="178" idx="0"/>
          </p:cNvCxnSpPr>
          <p:nvPr/>
        </p:nvCxnSpPr>
        <p:spPr>
          <a:xfrm>
            <a:off x="7467120" y="3124080"/>
            <a:ext cx="762840" cy="53424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84" name="Rectangle 24"/>
          <p:cNvSpPr/>
          <p:nvPr/>
        </p:nvSpPr>
        <p:spPr>
          <a:xfrm>
            <a:off x="1523880" y="4876920"/>
            <a:ext cx="144792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ценных бумаг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Rectangle 25"/>
          <p:cNvSpPr/>
          <p:nvPr/>
        </p:nvSpPr>
        <p:spPr>
          <a:xfrm>
            <a:off x="3505320" y="4876920"/>
            <a:ext cx="1371600" cy="60948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кредитов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Rectangle 26"/>
          <p:cNvSpPr/>
          <p:nvPr/>
        </p:nvSpPr>
        <p:spPr>
          <a:xfrm>
            <a:off x="6400800" y="4724280"/>
            <a:ext cx="1371600" cy="106704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Рынок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 </a:t>
            </a: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средств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1932"/>
                </a:solidFill>
                <a:latin typeface="Times New Roman"/>
              </a:rPr>
              <a:t>производства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87" name="AutoShape 28"/>
          <p:cNvCxnSpPr>
            <a:stCxn id="174" idx="2"/>
            <a:endCxn id="186" idx="0"/>
          </p:cNvCxnSpPr>
          <p:nvPr/>
        </p:nvCxnSpPr>
        <p:spPr>
          <a:xfrm flipH="1">
            <a:off x="7086240" y="3123720"/>
            <a:ext cx="381600" cy="160092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8" name="AutoShape 31"/>
          <p:cNvCxnSpPr>
            <a:stCxn id="176" idx="2"/>
            <a:endCxn id="184" idx="0"/>
          </p:cNvCxnSpPr>
          <p:nvPr/>
        </p:nvCxnSpPr>
        <p:spPr>
          <a:xfrm flipH="1">
            <a:off x="2247120" y="4267080"/>
            <a:ext cx="122004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89" name="AutoShape 32"/>
          <p:cNvCxnSpPr>
            <a:stCxn id="176" idx="2"/>
            <a:endCxn id="185" idx="0"/>
          </p:cNvCxnSpPr>
          <p:nvPr/>
        </p:nvCxnSpPr>
        <p:spPr>
          <a:xfrm>
            <a:off x="3466800" y="4267080"/>
            <a:ext cx="724680" cy="61056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90" name="Rectangle 33"/>
          <p:cNvSpPr/>
          <p:nvPr/>
        </p:nvSpPr>
        <p:spPr>
          <a:xfrm>
            <a:off x="3200400" y="457200"/>
            <a:ext cx="2819520" cy="1143000"/>
          </a:xfrm>
          <a:prstGeom prst="rect">
            <a:avLst/>
          </a:prstGeom>
          <a:solidFill>
            <a:srgbClr val="99ff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1932"/>
                </a:solidFill>
                <a:latin typeface="Arial Black"/>
              </a:rPr>
              <a:t>Рынки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cxnSp>
        <p:nvCxnSpPr>
          <p:cNvPr id="191" name="AutoShape 39"/>
          <p:cNvCxnSpPr>
            <a:stCxn id="190" idx="2"/>
            <a:endCxn id="172" idx="0"/>
          </p:cNvCxnSpPr>
          <p:nvPr/>
        </p:nvCxnSpPr>
        <p:spPr>
          <a:xfrm flipH="1">
            <a:off x="2057040" y="1599840"/>
            <a:ext cx="255312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2" name="AutoShape 40"/>
          <p:cNvCxnSpPr>
            <a:stCxn id="190" idx="2"/>
            <a:endCxn id="174" idx="0"/>
          </p:cNvCxnSpPr>
          <p:nvPr/>
        </p:nvCxnSpPr>
        <p:spPr>
          <a:xfrm>
            <a:off x="4609800" y="1599840"/>
            <a:ext cx="285804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93" name="AutoShape 41"/>
          <p:cNvCxnSpPr>
            <a:stCxn id="190" idx="2"/>
          </p:cNvCxnSpPr>
          <p:nvPr/>
        </p:nvCxnSpPr>
        <p:spPr>
          <a:xfrm>
            <a:off x="4609800" y="15998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EGION</cp:lastModifiedBy>
  <dcterms:modified xsi:type="dcterms:W3CDTF">2016-01-04T13:41:56Z</dcterms:modified>
  <cp:revision>35</cp:revision>
  <dc:subject/>
  <dc:title>PowerPoint Presentation</dc:title>
</cp:coreProperties>
</file>